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B965-5A2B-41D5-B8C2-438751CB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FEA-C07D-4EA8-9386-DB8BDD80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DAAC-2A44-4FF3-96B0-05121FA9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1850-BF81-4E7E-B2BD-C78C2D49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33F-BF47-4814-B7E0-183484EC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AEF-5560-444E-8014-5AE980F2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089-6541-41A5-A858-AF3CCD20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C42-FD6A-481B-8A3A-5A52E123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61B-7C06-481F-A348-CAD0202F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900-DE50-4A4B-9BB2-5A1EF09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7B9A-97D4-4857-A1F6-B99CB54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821-976A-4695-9061-9FDAC7FA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5933-CAED-448D-A613-2EDE9C984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Z projekat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ionalna orijentacij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prelazu u srednju š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1447920" y="2209680"/>
            <a:ext cx="6400800" cy="26672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G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НА ПРЕЛА</a:t>
            </a:r>
            <a:r>
              <a:rPr b="1" lang="sr-R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ЕАЛНИ СУСРЕ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52280" y="2209680"/>
            <a:ext cx="876312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ОБИ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Активно и искуствено уче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Допуњавање и упоређивање стечених теориј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знања о свету рада</a:t>
            </a:r>
            <a:r>
              <a:rPr b="1" lang="en-US" sz="1800" spc="-1" strike="noStrike">
                <a:solidFill>
                  <a:srgbClr val="4d4d4d"/>
                </a:solidFill>
                <a:latin typeface="Arial"/>
              </a:rPr>
              <a:t> и заним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Суочавање са информацијама доприно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формирању коначне одлу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4495680" y="990720"/>
            <a:ext cx="426744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04920" y="1371600"/>
            <a:ext cx="845820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ДИРЕКТНИ СУСРЕТИ СА СВЕТОМ РА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Распитивања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предузе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ИЗ ОБЛАСТИ ОБРАЗОВАЊ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Ис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пробав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е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акс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у шко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УСРЕТИ СА РЕЛАВАНТНИМ ИНСТИТУЦ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Н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ационална служба за запошљавање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Ц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ентри за информисање,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прив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НФОРМАТИВНЕ МАНИФЕСТ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Сајам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образовања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аја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занимањ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а и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кариј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Дани информисања о </a:t>
            </a: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редњим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школама – </a:t>
            </a: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Д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ан отворених вр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4d4d4d"/>
                </a:solidFill>
                <a:latin typeface="Arial"/>
              </a:rPr>
              <a:t>Сусрети са експертима у настави</a:t>
            </a:r>
            <a:r>
              <a:rPr b="0" lang="sr-CS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30492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/>
          <p:cNvSpPr/>
          <p:nvPr/>
        </p:nvSpPr>
        <p:spPr>
          <a:xfrm>
            <a:off x="4114800" y="1066680"/>
            <a:ext cx="426708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ЕАЛНИ СУСРЕ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371600"/>
          <a:ext cx="8229600" cy="4191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17"/>
          <p:cNvSpPr/>
          <p:nvPr/>
        </p:nvSpPr>
        <p:spPr>
          <a:xfrm>
            <a:off x="533520" y="1676520"/>
            <a:ext cx="3968640" cy="34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РАСПИТИВАЊЕ</a:t>
            </a:r>
            <a:r>
              <a:rPr b="1" lang="sr-CS" sz="2000" spc="-1" strike="noStrike">
                <a:solidFill>
                  <a:srgbClr val="1107d7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, ПРЕДУЗЕЋ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према за разгов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ијање конкрет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атака за посматр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купљање информ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4648320" y="1600200"/>
            <a:ext cx="4064040" cy="37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СПРОБАВАЊЕ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АК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РГАНИЗАЦИЈ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ПРЕДУЗЕЋ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ШК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према за учествовање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мом процесу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рада “правила игре” 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лни сусрет (радни ста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ме понашања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вна, структурис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флекс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поређивање да ли стеч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уства одговарају првобит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чекив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429000" y="1066680"/>
            <a:ext cx="53341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Посебан изазов</a:t>
            </a:r>
            <a:r>
              <a:rPr b="0" lang="sr-Latn-CS" sz="1800" spc="-1" strike="noStrike">
                <a:solidFill>
                  <a:srgbClr val="cc0000"/>
                </a:solidFill>
                <a:latin typeface="Arial"/>
              </a:rPr>
              <a:t>: </a:t>
            </a: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испробавање прак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962520" y="1600200"/>
            <a:ext cx="50292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изање свести о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чају испробавања прак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одршка законској регулативи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релевантних институ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твореност школе и привред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ипрема ученика/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школе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еза са циљевима, исходима, стандарди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урикулу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Процедуре и правила за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стваривање реалних сусрета кроз испробавање прак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арадња са родитељ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учене лекц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напређивање области реалних сусре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скуство из пилота потврђује: мисија је могу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обити на свим ниво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спостављање системске подрш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P1019204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152280" y="10666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1017108"/>
          <p:cNvPicPr/>
          <p:nvPr/>
        </p:nvPicPr>
        <p:blipFill>
          <a:blip r:embed="rId3">
            <a:lum bright="18000"/>
          </a:blip>
          <a:stretch/>
        </p:blipFill>
        <p:spPr>
          <a:xfrm>
            <a:off x="228600" y="2209680"/>
            <a:ext cx="1600200" cy="1054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P1019192"/>
          <p:cNvPicPr/>
          <p:nvPr/>
        </p:nvPicPr>
        <p:blipFill>
          <a:blip r:embed="rId4">
            <a:lum bright="18000"/>
          </a:blip>
          <a:stretch/>
        </p:blipFill>
        <p:spPr>
          <a:xfrm>
            <a:off x="152280" y="3352680"/>
            <a:ext cx="1600200" cy="1003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veterinar"/>
          <p:cNvPicPr/>
          <p:nvPr/>
        </p:nvPicPr>
        <p:blipFill>
          <a:blip r:embed="rId5">
            <a:lum bright="24000"/>
          </a:blip>
          <a:stretch/>
        </p:blipFill>
        <p:spPr>
          <a:xfrm>
            <a:off x="2057400" y="1676520"/>
            <a:ext cx="1600200" cy="140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vrtic 1"/>
          <p:cNvPicPr/>
          <p:nvPr/>
        </p:nvPicPr>
        <p:blipFill>
          <a:blip r:embed="rId6"/>
          <a:stretch/>
        </p:blipFill>
        <p:spPr>
          <a:xfrm>
            <a:off x="2057400" y="3276720"/>
            <a:ext cx="1641600" cy="1676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P1019182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228600" y="44197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WINDOWS XP</cp:lastModifiedBy>
  <dcterms:modified xsi:type="dcterms:W3CDTF">2012-02-07T12:02:10Z</dcterms:modified>
  <cp:revision>1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